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EF6-981A-4E0C-BA50-0F0F1265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F17-9E1B-4DB7-83D3-C9487324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A33-A6F5-4EEF-9523-66797F2B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7F2-9651-48A0-88A8-1E4C513E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AB35-C881-47FE-9C51-91CE4559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C334-4E15-4EF1-BCFA-5ECC6518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A777-BB15-479F-92E7-800677AB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3808-E9BD-4D2C-9835-409399EC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B61B-E70B-4EEB-A2C8-54AEE0A4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3B75-0268-4509-8F52-0ED6FAAB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83A1-EC5B-485E-940D-2185877C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1FC-66C2-47C9-8A38-0677F66E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38D3-F6E0-402F-BBCF-353F2E23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3412-2E7D-4B4B-AA3D-5CD450CD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7B93-4AF9-4E6E-A265-CAC0093F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3A9C-7853-4E37-B563-8D3748AC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BC2B-84E6-4802-B1A7-499DC9D3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B888-A7DE-48D8-997E-764BA9C7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78304-292A-4DAB-8C37-77319C9F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AD48D-7A54-4D33-BB0B-8AE4B2BF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68F01-6CB0-4BCA-94C2-137048C5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6AC6B-FBF3-4FE9-B9B3-F7B2A67B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623-9DA3-4314-9F40-0E5E658A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134DC-0B59-437E-A8F0-2BB29515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0E6A-27E6-4BAC-9957-F2F6FE34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EF6F6-A4AB-42EA-985D-514A2288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DCEE6-9FA5-4ECB-A4A1-AB259978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1ECA4-77C9-4C51-A080-729ED36F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CF85-CDE7-446B-9F45-0EA66C6A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31491-BDBF-4A66-83AC-BCA04B02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DFBFD-97F9-47CC-9004-68FDDA3F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839F4-7603-4B83-973D-A62F1551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70D4-2BD6-4E0F-BDED-03C4E2B8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56A-940C-44FE-AAAA-0ADC8C43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555CC-2EE0-401E-913A-508AE81A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3927A-462A-4F52-82AC-CD048ABE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99F57-EA21-408F-BFFD-5B52CD96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9AD68-0C55-4843-8D9F-88402603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4A8DF-1639-4A1F-A009-5ABC11B5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3A020-CEDB-4703-8D51-F67C5CC9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6450E-CD51-4D17-8C6C-5BE947A6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5989-1E27-4673-83F1-9618DB7B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57165-8B3E-404F-B811-AAE0CC35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5F3B4-E6ED-4EA7-98FB-50A6BE3F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932-9444-4925-84CD-E1CB8035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26430-FB3B-4B81-A10F-D59D8A24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45410-C546-450F-9AD5-3A7805DE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BBC47-0674-4F45-B808-F302BEE5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DD7DF-60CF-4129-BD80-79BEBC3F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F3015-1171-4A53-8118-B5316E3C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F9748-50C8-46BC-92A8-11832F39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0009E-454B-4E0B-A041-647BAF8E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CFD68-D101-4ADF-AB8B-17A864E8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127C6-3773-4477-B077-99598D5F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851F3-17F1-41E7-AA52-4597A7FC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F1B-8C85-4EAA-B6E4-B7548FE9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67A00-D4F1-4B0F-BD29-00FD71A7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08AA2-B241-448E-ABFF-517B64BD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76B45-599B-4B0E-ADE3-7C36835E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47189-569E-43F1-ABD7-39619796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C11CB-50B5-4665-B2AF-43E296C4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BD8DD-12FC-4C2C-A9F1-923CE532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BDD4A-441C-458C-8741-43EBD649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868E0-A90B-4791-8F4D-C0878E7A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3CD6B-15D6-451E-B34B-AFD6D56F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84B19-C77C-445E-B33F-30664FE9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63E-589C-49E2-B20C-B334DCA1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BA2A9-F142-4CCA-8B5A-C268B03F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41A09-D507-479D-976B-4B89E0AD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94842-4E89-4A58-8C32-A0FA02EF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801-0163-454A-BC1C-4A0C9724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EEE-D87C-47AA-9B1D-C9FA187C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96DB-5C00-4F31-9947-6B88FEB9BB54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01B6-3070-4BEB-AABF-199C697B5472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3284-6AEC-43FD-B305-7419AB7FF328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1860-A8D3-40C9-B07C-E1B22115BCE7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F596-7522-49D5-998C-0415A5A3E05C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a67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25F5-0288-4B69-A258-B11F1B56D35E}" type="slidenum">
              <a:rPr b="0" lang="en-US" sz="1000" spc="-1" strike="noStrike">
                <a:solidFill>
                  <a:srgbClr val="bba67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603360" y="2225520"/>
            <a:ext cx="6834240" cy="2443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09120" y="4114800"/>
            <a:ext cx="64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ook Tal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 Stoo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y Should YOU read it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spensefu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crip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ought-provo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379960" cy="2359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3733920" y="1960560"/>
            <a:ext cx="2958840" cy="2230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3"/>
          <a:stretch/>
        </p:blipFill>
        <p:spPr>
          <a:xfrm>
            <a:off x="6397560" y="4191120"/>
            <a:ext cx="25941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ear the Story’s Soun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236760" cy="2438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2895480" cy="4186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3"/>
          <a:stretch/>
        </p:blipFill>
        <p:spPr>
          <a:xfrm>
            <a:off x="1828800" y="4114800"/>
            <a:ext cx="38862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01:15:18Z</dcterms:created>
  <dc:creator>Tiffany A. Brewer</dc:creator>
  <dc:description/>
  <dc:language>en-US</dc:language>
  <cp:lastModifiedBy>Tiffany A. Brewer</cp:lastModifiedBy>
  <dcterms:modified xsi:type="dcterms:W3CDTF">2008-11-18T01:51:47Z</dcterms:modified>
  <cp:revision>7</cp:revision>
  <dc:subject/>
  <dc:title>Three Skeleton Key</dc:title>
</cp:coreProperties>
</file>